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84FAD4-D835-4F51-A3C6-3D957A270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750860-448A-48A2-96F8-C5235A2E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0893C9-56F3-454F-9622-583429232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18AC69-992D-4894-BE38-55236DFFA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9371AE-D14C-4977-943A-001B4F50C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04B7-F7E3-49F0-8EDB-8009EB7C9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6F11-52D4-4396-90B8-C49F7B76F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87AE-0BA2-40A0-AACC-133BE2302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919E-89D5-4160-8BCC-9C6E0C9CA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1A72-8322-4F23-A843-74502A70D6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7232-6E93-4BCD-8A2C-36A12F912E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7B4F-0A7B-4CE8-9046-D8C238C888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0C50-53D4-4C72-8919-4CF8C6B2DA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B51A-8722-47A6-82D5-DE45E22D6F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9D82-21E1-4963-BF58-BB29BA43AC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CCCF-AC51-4FBF-80A0-72880D5B2C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C6EF-77E0-41A0-B656-13633D6BA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7D09-5BCE-45D7-B25E-068639861F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89E7-EC1D-4F63-A0C0-C88D595362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F22A2-1592-4224-B8B9-6BCE56CCC0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4964-6F41-4896-96DC-8D14616CA5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D048-56EA-4B69-B032-F96353D24D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96F-C9EF-472E-A914-C175650F48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1DB-EC21-4514-82CB-159CE32EDA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C2E-6071-4DF4-B273-8DB219BFBB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C4D-9810-403D-9FE1-3B5FD42298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780-EB06-4003-A956-60C4AE6EF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C3F2-1C7B-45CC-982A-9FF852B3E4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A19-994C-45B9-ACED-87AE86F9C6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FA9-C9C5-4B2E-AA7B-4A3C6CC113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61B-237E-47DC-A79B-89A4C78070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1BE-3AA4-4897-AE63-663EF27118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F6B-5BB8-4F37-BF6A-D8789FF4B3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D86-551C-499C-AF52-E8C156ABD5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959-50B4-43FF-85B1-BAB1DF91D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3D9A-2557-40C4-9371-54D0C1417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E090-D51F-4F3E-808E-8664ED5E3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D897-7847-4426-AA41-2367522E0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7020-290A-47F2-B5CE-099665004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369B-9C67-47B7-8392-71AC7BF04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8986-448B-4C32-B567-77D645894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A5A-5A1B-464E-8010-3E0B4E494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3530-1190-4145-9ABF-6DC9DC266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4038480" y="647676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B423-9DFE-4110-A414-2CA28E975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in 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istrict sets disqualifica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idders submit proposals; 7 do not have any disqualification factors and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60 pts, Refs 20 pts, History with District 20 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accepts all that get at least 5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of the 7 have at least 50 points and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55 pts, Technical Solution 45 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ning Bidder 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A009-8E46-4583-802C-F7C5722CB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m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stay with my incumb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spond to all legitimate inqu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ders can’t just send spam, but you have to talk to bidder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s that are being stonewalled can contact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to transfer to another provider alone is not by itself a good enough reason to stay with incumb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CA4D-DAC6-431F-AD78-FE1752014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m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ppearances of a “done de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ost for something you don’t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lans change, have a plan to communicate with potential bid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notice on your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unication paths already established for RFP, if one wa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your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4271-DD5B-4EAC-A89B-B9C9B4218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ggyback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in a contract signed between provider and another entity allowing others to purchase off the same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permissible under state &amp; local r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ract or RFP must allow for other entities to b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sti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your own Form 4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 your own competitive bid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all other FC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E5F6-710E-406B-8284-4594E12A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traditional Prov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As, State Agencies, etc as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your side – applicant or provider on single 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oth, then build appropriate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roles: Helping with application or providing technical assistance; help/review tech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roles: Provid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staf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y both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4866-9AB8-4AE5-8003-63143590C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traditional Prov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Conflict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by Category of Serv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SP for only one category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applicant for all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unctional/organization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ff function only as SP; other staff function only as appl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SA Guidance on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84FE-0657-4AFB-99B4-C60F32702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traditional Prov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get stu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“service provider” contact information on the Form 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"service provider" representatives that help determine the goods and services for which you are seeking b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“service provider” representatives that help with vendor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463E-0C76-46E8-A182-D01FEFC87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C requires fair and open competitive bidding; gifts could inhibit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cceptable under state/local regulations, could still be in violation of FCC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C will review case by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ance of violations can cause more reviews and delay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0A94-58D1-4565-B23C-DAEE89284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ls, travel, entertainment etc offered by service provider to an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s offered and/or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and follow your state and local rules regarding acceptance of gifts (limits, timeframe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and follow your school/library gift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ED06-3195-4C48-A5E3-F6839913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you can do: Gi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applicabl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 have a policy that tells your staff how to handle gifts, meals, travel, entertainment, etc offered by providers and potential bid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your staff: ignorance is not bl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gift really worth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CB0D-ED35-4A9A-8F58-2C5D1D3BB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D2CF-C4B1-4152-AC5A-F721D4831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Day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ng with Bid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tiered vendo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m B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gyback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raditional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6269-8FAB-4989-80FC-B54BAB90C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C09F-C16F-404E-B5A0-CFC47E345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Bi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air and open competitive bid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onflicts of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onsult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competition and bi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all rules – FCC and state/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contract fin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n your 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, retain, lessen your pa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2AB8-D2F3-4873-ADEA-696A27B8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 Day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28 DAYS after your Form 470 is post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r RFP is issued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the b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your service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sign a contract/legally binding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ile and certify your Form 471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 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 handed out at walk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day clock star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st of the RFP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 for 28 days restart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issue a new RFP, then your 28 days starts again (do not have to post a new 4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services s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other cardinal changes to 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new Form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ids received after 28 days, you may contact vendors to seek b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DD0B-A100-4934-913A-0940DFE4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ion with bid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communication with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everyone knows the same 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y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dequate notice to potential bidders about deadlines, walk-throughs, chang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breaking ne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dequate notice to all potential bid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8145-ADC4-4E49-BA8B-A28C77EFF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tier Bidding 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qualification/Qualification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re binary (meet/does not m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cannot be scored on range (subje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d in full to 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sed, Bonded and In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USAC Service Provider Identification Number (SP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E353-003C-4075-90D4-02E544DE4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tier Bidding 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ica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quire that potential bidders meet minimum number of qualifica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qualifica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quire that potential bidders that meet any disqualification factors are not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potential bidders have adequate notice of these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AB9F-13DB-465D-9181-E62D822A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tier Bidding E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 Evaluation Round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of the eligible goods and servic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mary fact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each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n include range of other factors (can be subjective or n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olution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utation/Prior History with the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sts of doing business with this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38480" y="647712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BF46-D470-4F95-BEC0-406D159DF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Catriona Ayer</cp:lastModifiedBy>
  <dcterms:modified xsi:type="dcterms:W3CDTF">2009-09-18T16:50:25Z</dcterms:modified>
  <cp:revision>397</cp:revision>
  <dc:subject/>
  <dc:title>Slide 1</dc:title>
</cp:coreProperties>
</file>